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ED7-C251-4933-997D-3AB0CB84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7A4-7CBD-425D-98B5-DA6621A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466-BB7F-4A88-AFC5-9670974C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794-05B2-4336-ACDD-8513B755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720-E11A-452A-B64D-C53EC7A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AC4-8F59-4BDB-AEBB-2503E3D5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A2F-82CE-44D1-A607-68E8351D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6EF-B092-4BE2-8458-BB0D1A05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82F-A305-4D46-9EB1-DD302972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848-F11E-4471-B063-1D40EF8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02E-01F6-44F4-B3E4-9D23DD60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B46-48C4-4DB5-8877-78B9072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4C5-22B8-42FE-B879-0D4D292D4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о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omic Sans MS"/>
              </a:rPr>
              <a:t>Гордана Тон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velikih vlakana (A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blagog taktil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ozicio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vibracio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malih vlakana (A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ercepcije bola i tempera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oštar bol i hladnoć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malih vlakana (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ercepcije bola i temperature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toplo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 fantomskog u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akon ampu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Bolovi, svrab u nepostojećem ekstremite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13360" y="3527280"/>
            <a:ext cx="413064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apija bola – vrlo slož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veliko neslaganje teorije i prak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očekivanja pacijen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zdravstveni radnici – neslaganje ok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pioidnih leko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toleran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vis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eželjeni efekti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čenje nocioceptivnog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Nesteroidni antiinflamatorni lekovi – NS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naprok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ibuprof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Neželjeni efek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G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kardiovaskularni 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čenje neuropatskog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ompleksno – ti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alge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tidepres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tiepilep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Lokalna primena aneste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piodni analge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авобољ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ол у гла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Јед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јчешћих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гоба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u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медиц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ко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енутк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в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живот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95%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жив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та боли унутар лоб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тракранијал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етљив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з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нс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ус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з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и - глософаринге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аг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њ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ртерије -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р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ротид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ртебралн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зилар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сов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шестоуга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Мозак није осетљив на б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сти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ају рецепторе за бол али периост кости осетљив на б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физиологиј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руктур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нервиса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одални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оцицептори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исок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аг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драж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оцицеп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ктивирај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ехани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рми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ијско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имула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мпулс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англ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н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лакн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пин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мпул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нтролатерал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г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удал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јед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рзалн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ого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рњ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ло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ичме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д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цицептив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форма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јекту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рој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бкортикал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гион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т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ртикал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укур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дулатор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стем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сцендент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сцендент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р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нзитиза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хиби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цицеп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Nervni sistem čoveka — Bionet Škola"/>
          <p:cNvPicPr/>
          <p:nvPr/>
        </p:nvPicPr>
        <p:blipFill>
          <a:blip r:embed="rId1"/>
          <a:stretch/>
        </p:blipFill>
        <p:spPr>
          <a:xfrm>
            <a:off x="76320" y="380880"/>
            <a:ext cx="906768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l - defini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RS" sz="25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ijatn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en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zorno i emocionalno iskustv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koje je povezano s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stvarnim ili pretećim oštećenjem tkiv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Akutni bol (kraće od 2 nedelje)- pomaže opstana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Hronični bol (duže od 6 meseci)- štetno fizičko, psihičko, i socijalno dejstv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Jačina bola nije srazmerna jačini draž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Bol narušava funkciju celokupne ličnos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ификациј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еђународ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ифик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К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(14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4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екундар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8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ранијал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алги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мар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центр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зроц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13.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класификова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довољ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пецифич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е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(14.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имарне главобоље - идиопат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1. Мигр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Г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нзион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К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стер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тал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игеминоаутоном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О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ал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Разликовање примарних 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80880" y="2436840"/>
            <a:ext cx="850752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кундарне главобоље - симптомат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traum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vaskularn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nevaskularn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rimene odredjih supstanc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infekci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oremećaja homeostaz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oremećaja vrata, lobanje, </a:t>
            </a: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očiju, ušiju, zu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2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sihijatrijsk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јагностички поступ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пунск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ре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ијагноз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етаљ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руктурира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ође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Животно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доб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четк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е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50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ганиц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Трајањ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-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а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алг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‹1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чин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станк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гл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тепе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кспанз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Локализација бо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њањ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њањ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отемпо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уб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ронт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лар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итемпо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тензив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д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нављањ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честалост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с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ип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кунд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а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форм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раза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нтензитет бол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А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1-10)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аће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орав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дивиду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лиг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тенз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нингити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брил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упт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еуриз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валите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улсирају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брил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хипертен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ез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руч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бод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“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арач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ровоцирај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горшавају бо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јутр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ћ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шаљ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зумир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к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мир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ра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дружен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ијагностичк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итерију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дром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дром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мо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ев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треба 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латкиш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учни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т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нофоб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куд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B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ubjektivni doživljaj na koji utiču razni fakto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kutural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sociološ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religiozni........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Psychology and chronic pain"/>
          <p:cNvPicPr/>
          <p:nvPr/>
        </p:nvPicPr>
        <p:blipFill>
          <a:blip r:embed="rId1"/>
          <a:stretch/>
        </p:blipFill>
        <p:spPr>
          <a:xfrm>
            <a:off x="3924360" y="4248000"/>
            <a:ext cx="5219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уролошки на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већи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ормала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оматс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Фок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зна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дик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опхода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егле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чн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правил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виц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апил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птички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дсутнос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венских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улс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угериш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више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тракраниј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едел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к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опход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ерењ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траокуларн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артеријск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итис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унска испит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Дијагноз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тензион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основ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намнез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уредно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еуролошко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л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кс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хормони штитне жлез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икемиј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лцијум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реатин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рт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ликвор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умњ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А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енингитис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нфек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кације за допунска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затегну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вра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иплопи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асиметрич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ефлекс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аз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ме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нтинуира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горша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ак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реда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јача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изичк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пор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ашљ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умњ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фекциј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Епизо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убит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вес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ендокрон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ремећај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кације за допунска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лигнитет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фибромато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л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род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навља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тинуира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хте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токсика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лоупотреб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алге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пуш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ад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способ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Разликовањ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екунд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есни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м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личн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рани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дав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м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вред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шт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есни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ради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а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ави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че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агл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стој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морбидите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ог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бјаснит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Т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па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в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ов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огресив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Разликовањ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екунд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Особин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ј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пућуј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органск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болест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ко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изичк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по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мење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нт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т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рије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50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горш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серва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т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т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нац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мперат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вонаста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рцином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јинтензивн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ив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лептич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п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Хередитар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роксизмал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тич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дар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ождан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аб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куп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дностра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жесто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улсирајућ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отофоб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онофоб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смофоб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олаз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мпт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циде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370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00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вале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0-12%  4,8%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4,6%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тињст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азлик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еђ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л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Врх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валенц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четврто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ето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ениј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степе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п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еципитирајућ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ит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удност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п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ипоглик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ормонск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утритивн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лкохол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арир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ур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обич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85%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в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озн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енструалн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повез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уром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ласич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омпликова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визуелна 99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аудити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соматосензорна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мпл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игр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ц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нсормис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волутив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4-10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та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тензите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њ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90%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е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ич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долесц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80%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пресив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лоупотребља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мптоматс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рап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еч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филактич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192320" y="0"/>
            <a:ext cx="675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апија мигр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рапија 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рапија спречавања атака - профила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нзион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ј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1-74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2-3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о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лови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е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честал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а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р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иф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с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1-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диспон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сихосоциј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ес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вакоднев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рустр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омандибулар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исфунк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физи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ксиоз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прес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тер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тврто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ушкара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есто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бит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праорбит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мпо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нута-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јед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ледећ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њуктив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ем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акри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з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гест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иноре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д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п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ноје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о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то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ећа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и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гит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ат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8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не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азва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ремећај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уралгије главе и в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дистрибуцији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појединачн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периферн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анатомск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оштећења нер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Бол у виду убода који се често понавља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Глософарингеалн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ocioceptivni bol – bol zbog oštećenja tk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somat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visceral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europatski bol – oštećenj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somatosenzornog siste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perifer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centraln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3.    Mešoviti b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ocioceptivni+ neuropat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997600" y="3713040"/>
            <a:ext cx="314640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Rezultat lezija ili oboljenja koji zahvataju somatosenzorni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nervni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eriferni   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central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g_hi" descr="ANd9GcRAg3Xu3UyZmLePnON6jF-pFHzAoE0tPWWqlmFVg8reQXgQV5cNnw"/>
          <p:cNvPicPr/>
          <p:nvPr/>
        </p:nvPicPr>
        <p:blipFill>
          <a:blip r:embed="rId1"/>
          <a:stretch/>
        </p:blipFill>
        <p:spPr>
          <a:xfrm>
            <a:off x="4648320" y="349092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linički – spontani bol koji dugo tr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rovociran bol kao odgovor 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draži koje nisu bo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pecifičan kvalitet 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o prepoznati 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acijenti kažu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Žare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aljenj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Bocka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Lancinantni bolovi (cepajući bolov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Električni uda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ecka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Utrnul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Žmarc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Ubodi iglama ....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oktori kaž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lodin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bol provociran stimulusima koji nisu bolni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(statički, dinamički, terma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Hiperalgez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pojačan bol na bolne stimuluse (mehanič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termalni, hemijsk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Hiperpat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produžen i preteran bolni odgovor na boln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arest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izest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ov kvalitet senzacija (bockanje, kao na iglam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30T06:58:00Z</dcterms:created>
  <dc:creator>Gordana Toncev</dc:creator>
  <dc:description/>
  <dc:language>en-US</dc:language>
  <cp:lastModifiedBy>Gordana Toncev</cp:lastModifiedBy>
  <dcterms:modified xsi:type="dcterms:W3CDTF">2020-09-26T09:04:19Z</dcterms:modified>
  <cp:revision>33</cp:revision>
  <dc:subject/>
  <dc:title>Бол Главобоље</dc:title>
</cp:coreProperties>
</file>